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42D-6AA0-4A69-945C-FD1D4839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9DB-BA86-4159-9F66-0B2CA8C6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82DAA-31DD-4979-93DB-A433CC0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36C37-886C-42E4-832D-7D3D53FC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46988-9220-4080-994D-6F8F84CC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BBE33-5ACF-4062-9EB9-4D091542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E3110-341D-41DF-8795-C8D6CFDD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53E6A-74F0-4F99-B9B6-C5AE8E57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4E947-1081-4912-80F9-67191919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03EED-27EE-4665-B3D8-FDB7FA37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3F49C-5135-42CC-A2F9-CC9494C2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50FED-C63A-48C6-B3FC-BEAC6B67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265-9115-4C0E-BA47-B43E61BD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8230B-EFEC-47C8-BF14-25195832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19F23-62ED-4FC5-8778-EDF27F1B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672AB-FF6C-48B5-A2C0-67F0F040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B88B8-627F-4ACC-BD7E-A86CF537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108F3-09B9-47C9-9630-D7C9824A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B9F39-1E07-4544-8657-49F228D1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1667A-E054-4608-8F64-46943A58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3E598-D4D8-4A6A-B68D-31D0397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F5542-26EF-4A83-97F1-B36D818B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94EF4-682E-4301-AC56-C7770153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FF8-24E0-4C8A-9373-7DCF6F09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62FE3-5422-40D1-8EB8-70D552A5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3B4E7-375E-4134-87F5-F8060629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3E74D-62F6-4FBF-B3DC-5243638C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C1E71-5266-48C4-A2E3-9A36BA5D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D5A06-75D2-4A24-BE52-EE4993B8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B3BD3-7894-4135-848C-56B6AC5A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3ADA1-8955-4EF4-BA8E-0A32C254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4B065-CD80-4EA0-A001-39843C02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CCB12-196A-419D-A6AA-A8144CC4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CAF1E-A0A4-4DBF-80D4-E19844C9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6D80-5180-47A8-98A4-45BA7040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4C3D0-E2B5-4F85-8F33-749AF95E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11BEC-5F17-4A98-98B5-0C36FB85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5B74C-BED0-4C47-B9F7-EFEB3940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8679F-263C-4820-91D8-101FD0AD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4C2B0-B74B-4821-8FD4-486D7A48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C1A9C-CD4F-4308-80DE-48C1EBCF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4D8F7-F1BA-49B7-9A52-F98C782B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5ACF0-A619-4965-A8D1-3E4B03A6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5F546-ABFA-48F1-99F5-6E25AD67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83825-CD95-4489-8E76-5ADA22C2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26B3-5F78-4711-B1DE-B278785B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68147-9B38-497A-974E-F620588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B8E59-1B13-49B3-BB2B-BCE0FB99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26473-D11D-4121-90ED-0C2248C4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66278-5661-4B35-9138-72C92A02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DC816-966A-40C0-8005-1B79AE2E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A1777-C67D-471A-B2CB-0EDD00DC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B5E84-0EA0-4515-B0AC-B26B2795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3DE26-B3D5-473E-845B-CB05B251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6D9BA-61AD-43A7-8BE1-230EC502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7E0FA-DCAF-46DF-821B-A40CA40A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CCF4-57FA-4240-B282-FBD9630B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29701-A316-4D8C-B20B-D4102682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21F8C-FF4B-4829-BA05-A096067D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7DFF4-6815-45D2-B621-4274A18C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E9506-E868-4B73-8429-10984F5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0885D-A9FA-46C0-8263-2B36A0D3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30F93-12F9-4C54-B2CC-86D20BD9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3DE42-D479-41C6-9854-4259494C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94D33-129E-42A4-B854-80C2A97A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9C6CD-D9D5-440E-9DB7-EFA4A02C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B2524-CA55-46DE-B118-DBF47DA5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4969-04B3-4609-95A8-C31E9DB0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C6C3D-DF55-4151-9D95-3BC5653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960D6-F68F-47A4-BE1B-6FCF9F50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20122-F713-46D9-899E-049094C5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83C82-4ACD-4A8C-8F4A-FE563F4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13E3F-DCFD-4C50-8C40-7510A372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9CE59-676B-4F2C-ADCD-D633852A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E22B1-59A8-437D-8A19-355E6B36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93C3B-CD4E-4D30-863A-89319A86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CF9E7-3BF0-417C-80EC-EAE3F0D9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346EE-2C94-4971-9CB5-F6DB93C4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3DE2-B746-46C7-8EA2-B8CD52D5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7D5C2-F83B-40B5-ADE2-2DAA0EEE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6D901-644B-4068-880F-85B0FC90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3E42F9-62C0-4636-A5FE-3482846E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74115-40DA-4909-AB85-F568E011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562A4-2232-487A-985D-57C18510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38BA0-68A1-4F93-AAA0-8EBD362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1A1DC-5A1C-4C09-9486-A3BB8BA6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E8FF7-F923-44C8-B75A-558B4A68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EF4A2-193C-4814-AFFA-780C0B07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57242-27B9-4F7A-B757-F07186C6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6C30-F110-41FD-AAAC-DED540B1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9EBB0-B6C4-4EDF-A792-B8E5809B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36A49-DF99-4C95-BC8C-32B98518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DCF09-8120-4456-9F87-D1922F30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39187-1726-47F4-AF43-1E97462E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F0C58-9EAF-432C-AE75-92D3CEFB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706A7-4F88-415B-97BD-55775968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A1676-F9CB-4AB2-8041-A376D315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73AD7-721F-445D-8AAF-BB7E264C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ECBF7-7F63-4C45-AC04-26D74CF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E6FD8-10B8-48A4-9F55-0637BB96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E3E5-75FC-4D2D-9BF3-6B91A95E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F491A-1A58-482C-A196-83EF5CA0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CA92AA-2514-4D5E-9572-C80E79CF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49C52-F5EA-43D9-BCFA-B8DCDB82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B7F8F-A608-4464-B0D3-D99E9129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62D34-E8D9-480F-9D78-354B3229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FF98F-9608-4E6E-BDA0-B6E6B928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073C3-4EBF-4C50-83B0-9E1C8D6E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171EB-7A03-4FCE-98C6-6678291E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20667-118B-4F23-AF78-78C3DC57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59978-C383-4545-AB1D-90C5D7FD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CF6-3AA6-44B6-8964-99181CD3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0D02-263D-4D17-8C3D-F8A4AD5D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666C1-DAA0-4E1F-8402-2528A86A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672B4-EA9C-48E9-8C57-1AA8479F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F8CF2-32EF-4D21-8669-0B89AA67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F1422B-FBDA-4157-B34D-5D2D4005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ADA76-BE12-4F14-B191-507BE785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1CF70-6701-4E42-B27A-BF4C425F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66BBE-CD39-422E-B484-B1AA6DAC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89302-4524-4194-B8CF-8E0DE9D8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B21F7-C256-41A0-9BD7-4A90E336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9FF75-94B1-41DE-A520-6C19CB8B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DA6F-2D15-4CAD-9DEE-EAD234C8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87A47E-106C-40E3-94C5-8FA74B4E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43A0C-2AAC-47D1-BA6F-00D8DE2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BB0B7C-9430-4833-89FC-49801584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5537E-C75D-4E33-B58B-C301A39C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B94D4A-9270-4762-8F31-9D17F925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05CB5-E6F2-438D-95EF-357A768D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8CD04-2F75-4CE1-AAC5-A4ADAE02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F12E96-F34D-4423-A9EF-3161F2E2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77C07E-0B6B-4241-9DC0-47727F8B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97CF5-A889-4159-B88A-BA5C0FD8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0986-CA20-40A1-9A72-04ECF85E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19EB84-3E4F-4546-92F5-897497B1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CCE23-ADC6-49E8-9883-CB377205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91277-4DD9-495C-BB61-843FC35A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41D122-1139-4E58-B011-6BD44180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47BA1-31E2-48A7-BB8C-E7D5522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B6943F-30CA-466E-A350-040C4EBB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8AC46F-0C0C-4669-9BB1-F2139158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0EBBF-1DD8-4B86-9179-F3181F73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CBEF1-3508-4336-9078-81FC3BE7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5B3E6-F606-4D14-9D53-BD87879A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2E96-1507-4B0E-BAB7-CE33D7EF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7123DC-7869-45B1-A2DF-A6BCE233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D67FA2-5311-4361-AE34-2E7788A1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2E456B-9822-4B83-A756-968C107C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B5B4D6-4B3D-437F-A017-D60BA034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43A79-6313-48AA-B650-1BF5FF37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5BDC47-5CF9-4360-80D1-57B9EA7F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987916-A64C-4A11-AFA7-3BCE2B3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798B90-C96E-4BDE-8A06-9B18B02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28BA6C-9C74-4FA6-9D5E-9006BCE5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562DDD-55CA-4CB5-8809-4508D673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F999-73BB-4D40-876D-1028D59A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30C69-A07F-4DD3-BAB1-2DDBEFBF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39F8B3-F298-4AA2-A148-9A9DD1F3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CEC94-D40B-4D47-B258-B3E03C04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4FC16-E809-42EC-9FC7-9E35AD2D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DEA192-FD02-4604-A839-B7C2A4E5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D0A419-4611-48D5-9C87-053C4FF1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61060-2017-4940-811A-31991311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328277-4255-4F87-89E4-E576C927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3C835D-78C3-4924-83DC-37D2D1AE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93770-2D58-4A92-9587-6280D757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365F-F68F-4C80-851A-D3CDEFD1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0D3BCE-DAA7-41F9-BDB1-A9734B85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62899-3C75-4569-96C0-EB1988A2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D2032E-A39D-4ED0-BEE8-3DD69989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B317-0826-4B9C-A04C-2F758E93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4118E-8A3D-44D5-A7D4-F2FE1054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0BA2-2663-45DD-986B-79067C2F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CF46-4ACD-43E8-BF8E-803B3572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CF0-CAFF-4FEE-A924-62AE154A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CF12-8AF6-4446-96B3-2DD6B773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85164-78BB-4CCA-97F3-3090C48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8F85-65A4-4A5D-A963-1064CC5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C642-C5F7-4C8C-8417-2C42EF98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4088-66DA-4EC1-99F1-4342945A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B9C1-2F38-483F-A598-629A4C44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F3D5-D34A-4068-8DD3-A901A9C7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BAA98-2A97-47E4-BBF9-3F9B2C94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BD595-E8A5-4AFF-98E6-2B5BE2C3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9A8B0-78DC-4F23-BD58-823B0545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AAD-2538-4F09-ACF1-D3F1E321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76F9E-B8D1-4B29-9FCE-EA29988B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37078-E4C7-4F0B-8AD0-0D66DFEC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8AEF-127E-4609-A40E-E53B8BBC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E1298-9F18-49C4-8436-B7388407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4B65-496E-4F83-B6A3-886D9046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0D6FC-92C1-4FB1-A801-C5C7E3B8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26253-2F04-4FF9-9049-65BCADCE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5309-6DF6-45FF-8FDA-41EAAAD7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2910F-CA6F-461D-B20F-2FC5C8DB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444E8-5879-4313-8A6F-F102BA62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8F7-B02B-43A8-BAD1-393E90CF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CE379-3217-49BB-A8AE-FD936E5A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3E5CC-256E-427A-B124-EC1D4EDD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9EEBB-DD16-4004-8B0F-DDA0E781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C7BB5-9558-4C94-807E-BC77500D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2279E-382E-430E-A5F3-D02667FC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56712-1B4B-40F1-9393-8038368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81660-2021-45E9-B790-2893E1A8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7C3E9-DA50-4C5C-BC88-DEC42D90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60E12-E8B8-4E3F-B3DD-1285CAC4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8620B-E563-49D1-BEF9-9B44A957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157-F12E-47DD-A0E9-B7D7F44A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589E-39A7-469B-92FC-D4A30687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AF60C-53BE-4FBB-B694-199FDB66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F2A4A-CCC0-492D-8BE0-E0C35613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EF806-ECEB-49A9-8E57-863FCF08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E40EC-BC19-48D4-B4F0-A59B6463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5310F-657A-48B1-9480-D168C465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6C536-EF08-4AC1-97C3-5C09315F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89C6A-DFF2-435F-852D-5CDA2F42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5B2FE-B9DD-490D-AADF-A90F75B0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2824-9F0E-42F5-9E54-D84037E3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5EE-A25C-408C-8A7C-A6F5F2D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83642-C250-42B7-B8C2-49322B10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13761-CC76-406C-96E2-01F7EAE9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F07F8-0723-40A5-B00B-F925F80D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F63A0-A488-4799-AB89-6EB10AAA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DCE09-5245-4983-8507-DB0B544E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3A629-568D-4690-BAC2-64983258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035FB-BD82-457F-AD87-72363560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A2490-D698-43CA-AB63-5BB2B704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6DCF3-2D7A-440C-8585-DABA8DD3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0062D-5352-4FB9-9BD9-25A4A2C0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6FB-57FD-420D-904C-D060680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274FF-66DF-4119-A7BF-34F9A63D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6A2ED-E977-4308-843A-185F4662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DF964-B322-44FF-A2CE-2D8E75DE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415B5-2B97-4298-ADDD-A1918878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640F4-29B4-4213-B9A9-D757B967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B4033-5551-4709-80CD-B56F3839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06477-8218-4AD7-ABEF-AF3B46F4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657D0-4932-44A6-920E-7728C61C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1661E-F2C8-4917-AF9B-30643A84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372D9-3DF2-4F9A-90E9-5D84AD68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3B8-5A6E-4F57-89C7-63C1833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7FB03-42FB-41F4-87E6-B505E314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FFA61-1232-4F59-849D-D354CBAC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BE100-F6A5-4DD3-A673-05816577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042B9-9B6A-4E8A-A8F7-01275ABD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C9564-B9FB-4B44-B971-A9A99544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0EC07-BE6F-41F6-91CD-D4E029B2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37CCF-6949-48E4-AC27-EF467D56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11580-3D0B-4C28-A6E7-8894D70D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0F1B7-D0DD-44AA-8A11-19F82346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7456C-BB9D-4E6E-9D04-D81BDDF9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EE28-F7B2-4795-97A8-9ADCAD57E0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544C-2593-47A9-A728-B33A95473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DBB2-1514-4C11-B138-66D8309FB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52A7-95EC-4495-9DDF-DAF9A04910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82F1-9C2E-4DD3-9BE0-53F60087F1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76C8-9F73-4FC2-B76A-91E1C14642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B3F4-3476-4705-9CD3-38532A54F2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D925-CE90-43D5-AF75-337478E35C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DF77-CF69-44FE-94CA-D8FFB1854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8C99-0DCB-49AD-9FBF-7AEC125F16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CBE7-3220-498D-B50C-621EBCB6E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B1E7-4FDC-477E-BA93-8916AF30A3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CF4C-FCB2-4F23-B3D1-4DC4486E8B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2873-D800-4F3C-98B7-19D581C83D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B1D2-31C4-472C-B985-A0E5DF3AF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3DAF-8287-44AF-AB6E-DC0C0668C1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13B1-8031-47FC-9C52-887D7E2A65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1B81-645A-44F2-B644-D0524DBD21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4F69-E858-4F19-8DC2-044D29220F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588E-B8D5-427A-96A0-662D9A72BA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E42B-5A31-4D11-A324-24ADCC10E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0432-1E79-40C1-BCBC-40FED82EC7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9663-0B05-4558-AE03-E3304AB9E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5013-D7D0-4CB7-A8D3-F1DD78055C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6191-01E9-498B-9FA4-C4F1CE910D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932A-51CD-4A6A-9459-15BECAF54B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E57A-4F60-429A-9715-223CD373E8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9C7C-E2EC-4300-9A3D-FC7AD4F8CB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D000-862D-4001-86C6-5BAEB3B6F7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9D66-81A8-4463-9DF0-5643560A35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D39A-9130-4C12-A3D2-76C6541058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CC14-646D-4ED8-A1BF-9244781244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7210-2333-4F9F-B41C-09B83B5A4C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D9CA-CB77-4326-9658-EE581B2C19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A472-D35F-41D8-B8A7-1EA160D6A5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D515-3DA9-4887-A839-C308989064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B858-0F5F-426F-977F-0A7CBEB4EC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9527-CA84-47CE-A644-7CCFD63471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9D76-69BB-4AAC-954E-90D1D88852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041C-E3CB-4D4E-AFBC-A358A4307F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66960" y="2757600"/>
            <a:ext cx="721008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47760" y="1433520"/>
            <a:ext cx="8448480" cy="3990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124000" y="325116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084720" y="325584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340000" y="4221000"/>
            <a:ext cx="144000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284720" y="4221000"/>
            <a:ext cx="143964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156360" y="4221000"/>
            <a:ext cx="144000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956720" y="4221000"/>
            <a:ext cx="79200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340000" y="4653000"/>
            <a:ext cx="15112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076640" y="4643280"/>
            <a:ext cx="151128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940360" y="4643280"/>
            <a:ext cx="151128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632720" y="4653000"/>
            <a:ext cx="11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060640" y="5084640"/>
            <a:ext cx="11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708360" y="5084640"/>
            <a:ext cx="118764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5292720" y="5084640"/>
            <a:ext cx="11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7000920" y="5084640"/>
            <a:ext cx="14396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9410" descr=""/>
          <p:cNvPicPr/>
          <p:nvPr/>
        </p:nvPicPr>
        <p:blipFill>
          <a:blip r:embed="rId1"/>
          <a:stretch/>
        </p:blipFill>
        <p:spPr>
          <a:xfrm>
            <a:off x="138240" y="833400"/>
            <a:ext cx="8867520" cy="51912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2411280" y="1820880"/>
            <a:ext cx="511344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2124000" y="2665440"/>
            <a:ext cx="511344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1619280" y="3554280"/>
            <a:ext cx="511344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4159080" y="4816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4835520" y="4807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4159080" y="5300640"/>
            <a:ext cx="55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8373" descr=""/>
          <p:cNvPicPr/>
          <p:nvPr/>
        </p:nvPicPr>
        <p:blipFill>
          <a:blip r:embed="rId1"/>
          <a:stretch/>
        </p:blipFill>
        <p:spPr>
          <a:xfrm>
            <a:off x="628560" y="2395440"/>
            <a:ext cx="7886880" cy="2067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4408560" y="3232080"/>
            <a:ext cx="40320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5464080" y="3255840"/>
            <a:ext cx="40320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524720" y="3251160"/>
            <a:ext cx="40320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5181480" y="3971880"/>
            <a:ext cx="403200" cy="257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6218280" y="3971880"/>
            <a:ext cx="40320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7155000" y="3962520"/>
            <a:ext cx="5569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2:26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